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99B-5C66-43F0-91EF-073E3E6B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A6E-CC3A-4F10-87AB-E17BEFCA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846-8020-4F3F-A5B1-58B076A4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7AC-AD67-47E2-B162-CF6FF53B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332-B352-42B7-AA12-5FF89577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F64-080F-4518-A077-BE177BF6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086-57AA-4906-80B6-B429AB81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635-6A06-40E2-BCB2-55290416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B38-B3F2-48D2-A5BA-62E10113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674-CE9F-4144-8DC8-FCB218E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F62-D030-4C6B-B80C-72346F1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686-A407-4245-900D-E6854A0B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8DF28-0C51-4F4F-AE57-0960ED234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sser ara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32:24Z</dcterms:created>
  <dc:creator/>
  <dc:description/>
  <dc:language>en-US</dc:language>
  <cp:lastModifiedBy/>
  <cp:revision>1</cp:revision>
  <dc:subject/>
  <dc:title/>
</cp:coreProperties>
</file>